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8D4-421B-40A7-8CC3-8C0DF324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BF1-6CA6-4D6F-8902-FDE8878C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2A0-4377-40AC-B2E1-6BFCCECA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B0D-F2ED-44B2-8467-F4AEA515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34B5-596F-4021-B242-FF76FCA8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2F42-CEFF-4777-8DF6-BF744C97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C242-FC5B-4D31-A21D-2D2245F8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57F3-8E53-4759-9982-6426FC98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A8E4-8940-4ADE-B4F8-35FCB47A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1CA7-D1F9-46D3-9BCD-C52742FC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5130-B52A-4D22-8D34-AE2B90EF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008-D358-49DA-83D8-54C0E85E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4727-639A-4048-B65E-9FCE2524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A63A-2C27-4EF0-8A14-8A802261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CD96-511F-40B0-BD82-C5C77E8D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ABC9-8B8D-4248-95A9-1E95D80E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9429-5942-4FE9-9B14-ED5E9164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4D5-5BC6-467B-BDE0-D45A53C3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A04-5F62-4337-9896-4423166A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21C-961A-494E-80C3-9960EFAE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7AE-9998-4CAB-9841-17CE2558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D38-E863-4A73-A81D-0934504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7D1-4B02-43C1-B288-3383AC0F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7B8-D55C-4C65-832B-5E88E273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F6B2-2630-4C72-9B7C-4385FAE616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A93E-12EB-4148-8B49-4324E3608D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Arial"/>
              </a:rPr>
              <a:t>Projeto: Subtrator de Números Inteir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86064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sciplina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undamentos de Autômato e Linguagens Formais - CT20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fessor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r. Carlos Henrique Costa Ribeir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quipe de alunos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ernardo de Pádua dos Sant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ilário dos Santos Net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reza Lutércia Saraiva Li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urício Pozzobon Marti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2267640" y="105264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ituto Tecnológico de Aeronáu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isão de Ciência da Compu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1352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ós essa validação, aciona-se a máquina de Turing que realiza a subtração de dois inteiros. A cada iteração, a máquina desloca a cabeça de leitura até o final da segunda cadeia de entrada, lê o último símbolo da cadeia e apaga-o. Se este símbolo for um "1", sabemos que a segunda cadeia é positiva, se for um "0", que é negativ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tratégi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A cada iteração, a máquina desloca a   cabeça de leitura até o final da segunda cadeia de entrada, lê o último símbolo da cadeia e apaga-o. Se este símbolo for um "1", sabemos que a segunda cadeia é positiva, se for um "0", que é negativ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Dessa maneira, a máquina desloca a cabeça de leitura até o início da primeira  cadeia, lê seu primeiro símbolo e prossegue da seguinte form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cadeia for negativa, e a segunda positiva, adiciona um "0" à primeira cade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e a segunda cadeias forem negativas, remove um "0" da primeira cade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cadeia for positiva e a segunda negativa, adiciona um "1" à primeira cadeir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e segunda cadeias forem positivas, remove um "1" da primeira cade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máquina prossegue com estas iterações até que a segunda cadeia se extingue. Aí, a máquina remove o sinal de "-", e retorna a cabeça de leitura ao início da primeira cadeia, que passa a ser o resultado da operação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crição form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ara o subtrator desenvolvido no projeto, temos os seguintes valores de especificação da máquina de Tur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Q = {q1, q2, q3, q4, sub0, sub1, sub2, soma0, soma1, soma2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Γ</a:t>
            </a: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 = {0, 1, -, B(blank)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q0 = q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F = {q4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 Figura 2 apresenta o Diagrama de Transição do Subtrator, desenvolvido em JFLAP.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 de Transiç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7601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Execução passo-a-pass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o - Conteúdo inicial da fita: 00-1, equivalente à operação em números decimais -2-1; resultado esperado: 000, ou -3 em decima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87280" y="2349360"/>
          <a:ext cx="298620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29862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284720" y="1773360"/>
          <a:ext cx="3095640" cy="31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773360"/>
                    <a:ext cx="309564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84720" y="4941720"/>
          <a:ext cx="3095640" cy="191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4941720"/>
                    <a:ext cx="30956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te trabalho teve por objetivo implementar, no aplicativo JFLAP, uma máquina de Turing para subtrair dois números inteiros x e y, de maneira que a entrada do sistema fosse x e y inteiros, separados por um símbolo específico, e a saída seja x – 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madurecimento de idéias para se chegar a estrutura compacta e eficien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Recomendações: subtrator de n inteiros e subtrator de binári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eferências Bibliográf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1] Sudkamp, T. A. Languages and Machines – An introduction to the Theory of Computer Science. 2nd Ed. Addison-Wesley. 199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2] Sipser, M. Introduction to the Theory of Computation, 2nd Ed., Thomson Course Technology, 200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otiv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pecificação do problema e objetiv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cop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pecificação de Requisi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esenvolvim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iagrama de Transi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xecução passo-a-pass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onclus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O estudo da Computabilidad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O que é um algoritmo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Quais são as capacidades e limitações da computação algorítmic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xigência de um modelo formal de computaçã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áquina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 Tu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O processamento de um computador pode ser simulado por uma seqüência apropriada de Máquinas de Tur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pecificação do Problema e Objet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 problema consiste em modelar uma máquina de Turing que subtraia dois números inteiros. Portanto, o objetivo deste projeto é implementar uma máquina de Turing para subtrair dois números inteiros x e y, de maneira que a entrada do sistema seja: x e y inteiros, separados por um símbolo específico, e a saída seja x – 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cop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 representar os números inteiros, escolhemos a representação unária. Para representar inteiros positivos, utiliza-se o algarismo "1". O número de "1"s concatenados representa a magnitude do número. O número 0 é representado pela cadeia vazia "". Números negativos são representados de forma análoga aos números positivos, mas utilizando-se o algarismo "0"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pecificação de Requisi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áquina de Turing foi implementada seguindo um conjunto de requisitos arquitetados pelo grupo de desenvolvimento com o intuito de apresentar robustez e coerência. Tais requisitos são apresentados a segui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pecificação de Requisi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eitar como entrada dois números inteiros na forma unária especificada no item "Escopo", separados pelo sinal de menos ("-"). Por exemplo, "11111-0000"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r a cabeça de leitura posicionada no início do primeiro número antes do cálcu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r a cabeça de leitura posicionada no início do resultado após o cálcu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pecificação de Requisi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9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screver o resultado da operação na fita, na forma unário especificada anteriormente, sobrescrevendo as entradas. Por exemplo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endo-se "111-11" inicialmente na fita teremos "1" na fita após o cálcu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O número 0 será caracterizado pela ausência de 1’s e 0’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e um ou ambos os termos da subtração contiverem mistura de 0's e 1's a cadeia de entrada será rejeitad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-000 é aceito (0-(-3)), 111- também (3-0), mas 000 não. Precisa haver o sinal de men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adeia com apenas “-” deve ser aceita (0-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tes da operação de subtração da máquina de Turing, efetua-se uma validação da cadeia de entrada, verificando se há 0’s e/ou 1’s misturados, como mostra a figura abaix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688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9:20:47Z</dcterms:created>
  <dc:creator>Mauricio</dc:creator>
  <dc:description/>
  <dc:language>en-US</dc:language>
  <cp:lastModifiedBy>Mauricio</cp:lastModifiedBy>
  <dcterms:modified xsi:type="dcterms:W3CDTF">2008-06-25T14:21:29Z</dcterms:modified>
  <cp:revision>19</cp:revision>
  <dc:subject/>
  <dc:title>Projeto: Subtrador de Números Inteiros</dc:title>
</cp:coreProperties>
</file>