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13.png" ContentType="image/png"/>
  <Override PartName="/ppt/media/image5.jpeg" ContentType="image/jpe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B0D-A7C9-45F7-814C-C85B31D7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CA2-4F21-45FB-AC2F-AF81C16E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FC1-8071-480A-9526-754665D8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62F-8DBE-43BE-9D8E-B4B7DDCB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CEC-171B-4C1F-955F-EC3B2CC9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782-C9E1-4B1D-A530-3CAD9AA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670-31BB-44F3-BF82-DBD9A3C3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5368-D74B-426E-8CB1-374EDBB4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7E9-36AC-4FA0-88EA-65253A7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6B97-32C6-471A-B350-31F5949C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C16-8910-4E04-8663-96D19F3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33D-BBD0-412B-8A36-5BB9B0B6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AE3A-8F51-4E6D-A857-88A1710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A365-11FF-4DE9-9515-489D0DD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563A-E363-4020-86A7-189233D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7CAE-D522-488F-9C96-DD85AADC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30D-4C66-4521-B8E8-C6745D99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0B1-2F5F-4364-8F40-D950CC5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A58-741E-42DA-B29C-D29AACC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727-586D-418E-B944-B6B04A2D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25B-C881-4EAD-935B-82454AC8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A14-3646-4283-96D5-B7E7640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DF3-F005-49DD-85BC-D4E7E39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8B0-C58C-4C4C-BB66-54AC4A5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ita.b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3736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E3B-46DA-4E31-AA9E-A169546BA1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00360" y="63752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o Final : CT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F0AF-F5CA-4268-B732-C1EE039A68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6280" y="2028960"/>
          <a:ext cx="8286840" cy="3062160"/>
        </p:xfrm>
        <a:graphic>
          <a:graphicData uri="http://schemas.openxmlformats.org/drawingml/2006/table">
            <a:tbl>
              <a:tblPr/>
              <a:tblGrid>
                <a:gridCol w="1906560"/>
                <a:gridCol w="1549440"/>
                <a:gridCol w="2557440"/>
                <a:gridCol w="22734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c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+2=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-2=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-2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+2=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8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ção formal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,B,M,m,Z,P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ͨ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 sub-rot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4 e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3 transi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JFLAP_MT" descr=""/>
          <p:cNvPicPr/>
          <p:nvPr/>
        </p:nvPicPr>
        <p:blipFill>
          <a:blip r:embed="rId1"/>
          <a:stretch/>
        </p:blipFill>
        <p:spPr>
          <a:xfrm>
            <a:off x="971640" y="2152800"/>
            <a:ext cx="4540320" cy="1825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Ver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JFLAP_MT_VAL_EXP" descr="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JFLAP_MT_ERRO" descr=""/>
          <p:cNvPicPr/>
          <p:nvPr/>
        </p:nvPicPr>
        <p:blipFill>
          <a:blip r:embed="rId1"/>
          <a:stretch/>
        </p:blipFill>
        <p:spPr>
          <a:xfrm>
            <a:off x="933480" y="1860480"/>
            <a:ext cx="5956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276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Cal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JFLAP_MT_CAL_EXP" descr="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JFLAP_MT_SOMA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UB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JFLAP_MT_SUBTRAI" descr="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41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LI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JFLAP_MT_LIMPO" descr=""/>
          <p:cNvPicPr/>
          <p:nvPr/>
        </p:nvPicPr>
        <p:blipFill>
          <a:blip r:embed="rId1"/>
          <a:stretch/>
        </p:blipFill>
        <p:spPr>
          <a:xfrm>
            <a:off x="603360" y="1612800"/>
            <a:ext cx="473688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JFLAP_MT_ZERO" descr=""/>
          <p:cNvPicPr/>
          <p:nvPr/>
        </p:nvPicPr>
        <p:blipFill>
          <a:blip r:embed="rId1"/>
          <a:stretch/>
        </p:blipFill>
        <p:spPr>
          <a:xfrm>
            <a:off x="946080" y="1530360"/>
            <a:ext cx="41785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umár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015920"/>
            <a:ext cx="8242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 Geral da Solução Propo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Formal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os Passos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de 1 Exemplo Bem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1 Exemplo Mal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Crítica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lusão e Indicações de Melh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525680"/>
            <a:ext cx="3021120" cy="4011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73320" y="1521000"/>
            <a:ext cx="300852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29360" y="1515960"/>
            <a:ext cx="301464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77800"/>
            <a:ext cx="3017880" cy="402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60720" y="1482840"/>
            <a:ext cx="3017880" cy="403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07040" y="1477800"/>
            <a:ext cx="303696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3036960" cy="40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8120" y="1533600"/>
            <a:ext cx="3039840" cy="406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07040" y="1528920"/>
            <a:ext cx="303696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3029040" cy="401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75120" y="1604880"/>
            <a:ext cx="3033720" cy="403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22880" y="1622520"/>
            <a:ext cx="3021120" cy="40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3017880" cy="404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084480" y="1647720"/>
            <a:ext cx="3011400" cy="400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05600" y="1622520"/>
            <a:ext cx="3038400" cy="40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2998800" cy="401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6320" y="1563840"/>
            <a:ext cx="2998800" cy="398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132600" y="1512720"/>
            <a:ext cx="3011400" cy="39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487520"/>
            <a:ext cx="3009960" cy="3995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73320" y="1503360"/>
            <a:ext cx="3027600" cy="4027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45200" y="1503360"/>
            <a:ext cx="299880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3009960" cy="3992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60720" y="1503360"/>
            <a:ext cx="3008160" cy="400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32600" y="1528920"/>
            <a:ext cx="3011400" cy="39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508040"/>
            <a:ext cx="2998800" cy="3992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68640" y="1508040"/>
            <a:ext cx="2989440" cy="39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34040" y="1482840"/>
            <a:ext cx="300996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2982960" cy="396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8120" y="1528920"/>
            <a:ext cx="2944800" cy="3916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00640" y="1584360"/>
            <a:ext cx="2943360" cy="39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7960" y="901800"/>
            <a:ext cx="854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omador Genérico para Números Inteir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forma de uma Máquina de Turing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ntrada é formada por um conju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 1 números na form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número de parcelas a serem so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números inteiros, cada um representando uma d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ce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A saída é formada por um número in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88040" y="5022720"/>
                <a:ext cx="14922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2998800" cy="398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98880" y="1490760"/>
            <a:ext cx="3002040" cy="397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122880" y="1490760"/>
            <a:ext cx="302112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3011400" cy="4029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98880" y="1457280"/>
            <a:ext cx="3027240" cy="4030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54560" y="1452600"/>
            <a:ext cx="2989440" cy="39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299556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035160" y="1452600"/>
            <a:ext cx="2978280" cy="3989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135840" y="1482840"/>
            <a:ext cx="300816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452600"/>
            <a:ext cx="3033720" cy="4035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73320" y="1469880"/>
            <a:ext cx="3036960" cy="4043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135840" y="1503360"/>
            <a:ext cx="300816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4680" y="1665360"/>
            <a:ext cx="42145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080" y="1600200"/>
            <a:ext cx="895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inas de tratamento de erro tratam exemplos mal suce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possível simular um erro não tratado limitando a quantidade de memória disponível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-Xm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00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classpath ";JFLAP.jar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jar JFLAP.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65320" y="1552680"/>
            <a:ext cx="45054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ndo 600MB e mandando somar 200 parcelas unitári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JFLAP gera mais de 128000 configuraçõ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hega ao resultado corre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Versão da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33480" y="1711440"/>
            <a:ext cx="7169040" cy="44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686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é o sinal d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76240" y="2297160"/>
                <a:ext cx="80391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t xml:space="preserve">⋯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00040" y="4052880"/>
                <a:ext cx="2600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tivo entre versões inicial 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subrotinas com reaproveitamento de código e tratamento de er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19080" y="1752480"/>
          <a:ext cx="4505400" cy="25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52480"/>
                    <a:ext cx="450540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063800"/>
          <a:ext cx="103726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3800"/>
                    <a:ext cx="103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Conclusão e Indicações de Melhor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 feito, com sucesso, o projeto e a implementação de uma MT que soluciona o problema espec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íveis Melhor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números em binário, representando os inteiros negativos com complemento de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binário, há apenas a rotina de 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ós desenvolver somador em binário, extender a máquina para tratar números em ponto flutu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96960" y="3627360"/>
                <a:ext cx="81262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1480" y="4965840"/>
            <a:ext cx="1866960" cy="609480"/>
          </a:xfrm>
          <a:prstGeom prst="wedgeRectCallout">
            <a:avLst>
              <a:gd name="adj1" fmla="val -44217"/>
              <a:gd name="adj2" fmla="val -140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440" y="3467160"/>
            <a:ext cx="157500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120760" y="5143680"/>
            <a:ext cx="2730600" cy="914400"/>
          </a:xfrm>
          <a:prstGeom prst="wedgeRectCallout">
            <a:avLst>
              <a:gd name="adj1" fmla="val -53486"/>
              <a:gd name="adj2" fmla="val -128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2800" y="3467160"/>
            <a:ext cx="81288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457880" y="5194440"/>
            <a:ext cx="2286000" cy="914400"/>
          </a:xfrm>
          <a:prstGeom prst="wedgeRectCallout">
            <a:avLst>
              <a:gd name="adj1" fmla="val 8055"/>
              <a:gd name="adj2" fmla="val -125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 a Proces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47840" y="3517920"/>
            <a:ext cx="668016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término d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36480" y="3639960"/>
                <a:ext cx="1449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1:52:16Z</dcterms:created>
  <dc:creator>.</dc:creator>
  <dc:description/>
  <dc:language>en-US</dc:language>
  <cp:lastModifiedBy>Silvia Helena Paes Barreto</cp:lastModifiedBy>
  <dcterms:modified xsi:type="dcterms:W3CDTF">2008-06-24T04:47:18Z</dcterms:modified>
  <cp:revision>44</cp:revision>
  <dc:subject/>
  <dc:title>Somador genérico para números inteiros</dc:title>
</cp:coreProperties>
</file>