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2.xml" ContentType="application/vnd.openxmlformats-officedocument.presentationml.notesSlide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1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32600" cy="99647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32800" cy="996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7036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8168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2200" y="4731840"/>
            <a:ext cx="54673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6260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70360" y="946260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33F7-C232-4109-B995-FF31B963112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81680" cy="37353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2200" y="4731840"/>
            <a:ext cx="54673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o sinal do numerador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gua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 do denominador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ão coloca sin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á casos em que esse sinal será retirado (quando o quociente for zero), isso é feito mais para fr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 cinza está marcada uma alteração passa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81680" cy="37353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2200" y="4731840"/>
            <a:ext cx="54673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ssa é a estapa mais importante e demorada do proces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81680" cy="37353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2200" y="4731840"/>
            <a:ext cx="54673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ste slide pulamos alguns passos que são repetições dos mostrados no slides anteri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81680" cy="37353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2200" y="4731840"/>
            <a:ext cx="54673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o o último X, pois ele não encontrou um 0 para transformar em 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81680" cy="37353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2200" y="4731840"/>
            <a:ext cx="54673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Volto todos os X´s e a mesma quantidade de Y´s para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pare que neste momento já tenho o resto e o quociente ao final da cade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81680" cy="37353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2200" y="4731840"/>
            <a:ext cx="54673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ago os algarismos desnecessári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81680" cy="37353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2200" y="4731840"/>
            <a:ext cx="54673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crevo ´$´ no fi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81680" cy="37353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2200" y="4731840"/>
            <a:ext cx="54673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sloco a resposta para a esquer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ste slide os ´B´s foram deixados de propósito, pois estão nas posições onde estava a resposta no slide anter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81680" cy="37353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2200" y="4731840"/>
            <a:ext cx="54673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o + (Quociente X Denominador) = Numera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+ (-3 X 2)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81680" cy="37353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2200" y="4731840"/>
            <a:ext cx="54673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o JFlap o ´B´ é um quadradinh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81680" cy="37353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2200" y="4731840"/>
            <a:ext cx="54673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47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 figura ficou espalhada para não encavalar os textos das transições e os títulos das funções. Do exemplo anterior, há a seguinte correspondência entre as funções e as operações mostrad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7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i. Separação do quociente =&gt; Função_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7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ii. Determinação do sinal do quociente =&gt; Função_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7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iii. Cálculo da divisão =&gt; Funções_4, _5 e estados q2, q3, q4 e q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7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iv. Limpeza dos campos não-necessários na resposta =&gt; Função_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7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v. Delimitação da cadeia de saída e vi. Deslocamento da resposta à esquerda =&gt; Função_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7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s funções_3 e _7 referem-se a casos especiais que não ocorreram no exemplo mostr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81680" cy="37353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2200" y="4731840"/>
            <a:ext cx="54673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números negativos são precedidos pelo sinal ´-´ e os positivos não possuem sinal (não há sinal ´+´). O número zero possui um símbolo especial ´@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81680" cy="37353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2200" y="4731840"/>
            <a:ext cx="54673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o dividir? =&gt; Modo mais elementar é subtrair e contar as subtraçõ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81680" cy="37353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2200" y="4731840"/>
            <a:ext cx="54673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mos ver rapidamente como seria a solução neste ca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81680" cy="37353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2200" y="4731840"/>
            <a:ext cx="54673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 vermelho está ressaltada a última alteraçã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282C-6363-4723-BB97-755C44818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5F51-9D26-490B-BBBD-F7414D1B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E38D-98C7-4BE3-BEBD-E24DA997F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E880-91E5-405E-AB7C-C22FF77FC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4D6E-8430-4859-BAC0-4701CD70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3432-7929-4C2C-9AD2-F6CEC214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86F3-9F74-45F0-817E-AC49166B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ABA6-565D-4BBF-AEE8-A972C41A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C47C-28B6-41C0-93F8-FAECC575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EEDB-5A6D-42C5-9665-8DDEE7D9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32B1-2621-4356-9DF7-FD231E1B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D9B6-83E9-469C-8C52-F1B07F71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181B-84F5-40C1-9E9F-965EDAEB5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hyperlink" Target="E:\THIAGO\ITA\Isoladas\CT200-Automata\Projeto\Final\JFLAP.jar" TargetMode="External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47640" y="3284640"/>
            <a:ext cx="64008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SÃO DE NÚMEROS INTEI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03280" y="4581360"/>
            <a:ext cx="2433600" cy="13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lunos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r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icar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hi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Wag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Wellingto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95280" y="1989000"/>
            <a:ext cx="8466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ROJETO DE MÁQUINA DE TURING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692280"/>
            <a:ext cx="32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Apresent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76720" y="333360"/>
            <a:ext cx="32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jeto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1844640"/>
            <a:ext cx="864072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001-0000000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1844640"/>
            <a:ext cx="864072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01-0000000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0320" indent="-37152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0320" indent="-37152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0320" indent="-37152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álculo da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1844640"/>
            <a:ext cx="864072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X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01-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000000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0320" indent="-37152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0320" indent="-37152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álculo da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1844640"/>
            <a:ext cx="864072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X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Y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000000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0320" indent="-37152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álculo da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1844640"/>
            <a:ext cx="864072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XX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Y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00000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0320" indent="-37152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álculo da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1844640"/>
            <a:ext cx="864072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XX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YY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00000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1-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álculo da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1844640"/>
            <a:ext cx="864072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00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YY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00000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1-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álculo da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1844640"/>
            <a:ext cx="864072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YY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00000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1-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álculo da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1844640"/>
            <a:ext cx="864072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X0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YY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0000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1-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álculo da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4000" y="1844640"/>
            <a:ext cx="864072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X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YYY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0000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1-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álculo da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692280"/>
            <a:ext cx="32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Sumá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2637000"/>
            <a:ext cx="7128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ecificação do 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ão Geral da Implemen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ção da MT Projeta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mp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lu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25800" y="17002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á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1844640"/>
            <a:ext cx="864072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XX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YYY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1-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álculo da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1844640"/>
            <a:ext cx="864072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XX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YYYY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1-0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álculo da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1844640"/>
            <a:ext cx="864072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XX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YYYY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YY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1-00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álculo da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1844640"/>
            <a:ext cx="864072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00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YYYYYY01-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álculo da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1844640"/>
            <a:ext cx="864072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YYYYYY01-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álculo da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" y="1844640"/>
            <a:ext cx="864072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X0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YYYYYY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1-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álculo da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1844640"/>
            <a:ext cx="864072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X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YYYYYYY1-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cabaram os 0´s do numer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álculo da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9272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4000" y="1844640"/>
            <a:ext cx="864072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X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YYYYYYY1-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álculo da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1844640"/>
            <a:ext cx="864072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YYYYYY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1-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álculo da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4000" y="1844640"/>
            <a:ext cx="864072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BBB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BBBBBB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01-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álculo da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impeza dos campos não-necessários na respo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Especificação do Proble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17800" y="1197000"/>
            <a:ext cx="31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pecificação do 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1844640"/>
            <a:ext cx="86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tar  e implementar uma Máquina de Turing com intuito de efetuar cálculo de divisão de números intei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rada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,y inteiros, separados por um símbolo específ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ída: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e inteira de x/y e resto de x/y, separados por um símbolo específ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1844640"/>
            <a:ext cx="864072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BBB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BBBBBB01-000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álculo da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impeza dos campos não-necessários na respo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limitação da cadeia de saí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1844640"/>
            <a:ext cx="8640720" cy="50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01-000$BBBBBBBB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álculo da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peza dos campos não-necessários na respo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imitação da cadeia de saí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locamento da resposta à esquer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17800" y="1197000"/>
            <a:ext cx="34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ão Geral da Implemen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1844640"/>
            <a:ext cx="8640720" cy="20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ad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00000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íd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-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-0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996633"/>
                </a:solidFill>
                <a:latin typeface="Arial"/>
              </a:rPr>
              <a:t>Resto=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Quociente=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3418920" y="2563560"/>
            <a:ext cx="216000" cy="793800"/>
          </a:xfrm>
          <a:custGeom>
            <a:avLst/>
            <a:gdLst>
              <a:gd name="textAreaLeft" fmla="*/ 0 w 216000"/>
              <a:gd name="textAreaRight" fmla="*/ 78120 w 216000"/>
              <a:gd name="textAreaTop" fmla="*/ 20520 h 793800"/>
              <a:gd name="textAreaBottom" fmla="*/ 773280 h 79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5400000">
            <a:off x="2592360" y="2744640"/>
            <a:ext cx="216000" cy="432000"/>
          </a:xfrm>
          <a:custGeom>
            <a:avLst/>
            <a:gdLst>
              <a:gd name="textAreaLeft" fmla="*/ 0 w 216000"/>
              <a:gd name="textAreaRight" fmla="*/ 78120 w 21600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Descrição da MT projetad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4000" y="184464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maquina de turing projetada tem abrangência para efetuar calculo de Divisão para todos números do conjunto de Inteiros. Considerando símbolos abaixo descrimina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36920" y="1216080"/>
            <a:ext cx="31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ção da MT projetad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16000" y="278136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{$, 0, 1,  -, @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{$, 0, 1,  -, @, B, #, X, Y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79200" y="4005360"/>
            <a:ext cx="621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$:delimitador da cade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: sepa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: sinal neg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@: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: bl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#: divisão por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X: símbolo auxiliar que substitui os algarismos do divis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Y: símbolo auxiliar que substitui os algarismos do divide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26360" y="352116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on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Descrição da MT projetad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700360" y="105264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agrama de Transição da MT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200720" cy="50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Descrição da MT projet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4000" y="148428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unção_1: Escreve símbolo separador ´1´ ao final da cade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2195640" y="2708280"/>
            <a:ext cx="475128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Descrição da MT projet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4000" y="148428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unção_2: Determina 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258920" y="1916280"/>
            <a:ext cx="64818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Descrição da MT projet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148428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unção_3: Divisão com Numerador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1709640" y="2724120"/>
            <a:ext cx="572472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Descrição da MT projet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4000" y="148428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unção_4: Acrescenta uma unidade a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Escreve ´0´ no final da cade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2490840" y="2685960"/>
            <a:ext cx="416232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Descrição da MT projet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4000" y="148428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unção_5: Desfaz substituições de ´X´ e ´Y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2050920" y="2133720"/>
            <a:ext cx="501984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Especificação do Proble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18160" y="1197000"/>
            <a:ext cx="20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úmeros intei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184464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i utilizada a representação uná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556000" y="2421000"/>
          <a:ext cx="3455640" cy="3651120"/>
        </p:xfrm>
        <a:graphic>
          <a:graphicData uri="http://schemas.openxmlformats.org/drawingml/2006/table">
            <a:tbl>
              <a:tblPr/>
              <a:tblGrid>
                <a:gridCol w="1536480"/>
                <a:gridCol w="1919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i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á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@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Descrição da MT projet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4000" y="148428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unção_6: Apaga o denominador e verifica se o quociente é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347760" y="2367000"/>
            <a:ext cx="844848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Descrição da MT projet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4000" y="148428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unção_7: Trata a Divisão por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1781280" y="2809800"/>
            <a:ext cx="55814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Descrição da MT projet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4000" y="148428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unção_8: Acrescenta ´$´ao final e Desloca à Esquer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1692360" y="1905120"/>
            <a:ext cx="626436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Execução passo a passo de 3 exemp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9280" y="112536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ecução passo a passo de exemp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exemplos serão executados direto no jFlap para maior acompanha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7236000" y="4724280"/>
          <a:ext cx="438120" cy="4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3" name="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6000" y="4724280"/>
                    <a:ext cx="43812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4" name="" descr=""/>
          <p:cNvPicPr/>
          <p:nvPr/>
        </p:nvPicPr>
        <p:blipFill>
          <a:blip r:embed="rId5"/>
          <a:stretch/>
        </p:blipFill>
        <p:spPr>
          <a:xfrm>
            <a:off x="684360" y="2421000"/>
            <a:ext cx="4752720" cy="37051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6590880" y="436572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ecutar jFl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Conclus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9280" y="1125360"/>
            <a:ext cx="871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clu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as entradas testadas o comportamento foi corre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as cadeias inválidas testadas, houve rejei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ouro de memória no JFlap: 161/2 OK, 162/2 K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ficuldade: utilização das funções no JFl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rabalho futu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clusão do sinal positivo ´+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presentar zero por ´0´ e um por ´00´, suprimindo o símbolo ´@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utro algoritmo, mais eficiente/inteligente =&gt; base binária ou dec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Especificação do Proble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18160" y="11970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1844640"/>
            <a:ext cx="8640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entrada possui o seguinte forma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Delimitador de cadeia&gt;&lt;Denominador&gt;&lt;Separador&gt;&lt;Numerador&gt;BBBBB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n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Delimitador de cadeia&gt; =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Separador&gt;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Numerador&gt; e &lt;Denominador&gt; são números inteiros representados na base uná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emp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00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000000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0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-000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-4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-000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0000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00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@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Especificação do Proble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18160" y="11970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í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1844640"/>
            <a:ext cx="8640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saída possui o seguinte forma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Delimitador de cadeia&gt;&lt;Resto&gt;&lt;Separador&gt;&lt;Quociente&gt;&lt;Delimitador de cadei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n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Delimitador de cadeia&gt; =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Separador&gt;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Resto&gt; e &lt;Quociente&gt; são números inteiros representados na base unária. No caso de divisão por zero, o &lt;Quociente&gt; assume o valor especial ´#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emplos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st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0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@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-0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-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00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@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16720" y="1197000"/>
            <a:ext cx="19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éia da Solu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844640"/>
            <a:ext cx="8640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trair o denominador do numerador tantas vezes quantas forem possívei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quociente é o número de subtrações realizad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resto é o valor que sobrar após a última subtração. Assim, tem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mplo: 11 /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 – 2=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– 2 =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– 2 = 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subtrações: Quociente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– 2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– 2 =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o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19280" y="3571920"/>
            <a:ext cx="360360" cy="1297080"/>
          </a:xfrm>
          <a:custGeom>
            <a:avLst/>
            <a:gdLst>
              <a:gd name="textAreaLeft" fmla="*/ 0 w 360360"/>
              <a:gd name="textAreaRight" fmla="*/ 129960 w 36036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32000" y="4797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17800" y="1197000"/>
            <a:ext cx="34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ão Geral da Implemen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1844640"/>
            <a:ext cx="8640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00000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nominador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Nume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3886920" y="1593000"/>
            <a:ext cx="216000" cy="172872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2592360" y="2241360"/>
            <a:ext cx="216000" cy="432000"/>
          </a:xfrm>
          <a:custGeom>
            <a:avLst/>
            <a:gdLst>
              <a:gd name="textAreaLeft" fmla="*/ 0 w 216000"/>
              <a:gd name="textAreaRight" fmla="*/ 78120 w 21600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844640"/>
            <a:ext cx="864072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001-0000000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2T18:25:46Z</dcterms:created>
  <dc:creator>wellingtonn</dc:creator>
  <dc:description/>
  <dc:language>en-US</dc:language>
  <cp:lastModifiedBy>.</cp:lastModifiedBy>
  <dcterms:modified xsi:type="dcterms:W3CDTF">2008-06-24T02:57:33Z</dcterms:modified>
  <cp:revision>58</cp:revision>
  <dc:subject/>
  <dc:title>Slide 1</dc:title>
</cp:coreProperties>
</file>