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E60B-DCDE-4B97-BD93-672D6EF1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042B-9DB3-4DA9-9147-2390878F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2FD7-ED0B-4531-B35A-092EEB80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64D0-B9E0-4639-8FFD-46E454AF0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25D6-7BDD-45A8-A4C5-309B6607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DBB2-51AD-47BE-B8F9-BE052EC1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541D-0CE4-48EB-B1E6-CA065D7A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4EA4-389C-4D5F-9A9A-E114EFF4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C2E3-5C6C-4484-8356-D4E54047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FD6F-0673-40F5-B736-90890F5A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B4BA-8EC9-4D55-9074-60B1FE4C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9A75-50D3-4987-B8FB-0CCB03CB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C8FA-BABC-4E9F-A382-421BB4C3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7AA2-A2B1-4367-AED2-64659D18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25A7-A2EB-496D-93EC-9A66B910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3720-1F45-47C4-92E2-3BB05668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8435-BDE5-4DCB-86B0-CB8BE44A9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FED3-964F-4F84-A3A3-BF9C7A06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D809-FB20-45CC-AA11-5933AB44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77F6-0CA3-4B2D-83EA-FF22D75B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A1A2-4E58-4C3A-911B-8CA2B4E8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A8F9-4B89-4825-8B5C-3D8E843C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0E5E-4AB7-4A37-9263-890F6469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73CD-B967-4BF6-8314-65087D6D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813B-A568-4F7A-9077-8EA1DB23AD5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3E58-3075-459D-859E-25D117D9858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 Algoritmo de Bernstei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124080" y="3809520"/>
            <a:ext cx="520704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tônio Magno Lima Espeschi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tonio.espeschit@gmail.com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erdadeiro ou Falso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24840" y="2368440"/>
            <a:ext cx="50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CPF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Situação de Crédi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19080" y="4191120"/>
            <a:ext cx="5024520" cy="1336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898560" y="5657760"/>
            <a:ext cx="5121360" cy="12002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19440" y="3122640"/>
            <a:ext cx="700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iana Abranches Teixeira possuía 5 CPF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ndo passado mais de 437 cheques sem fundos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erdadeiro ou Falso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4840" y="2368440"/>
            <a:ext cx="50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CPF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Situação de Crédi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16560" y="2975040"/>
            <a:ext cx="695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s se você quer montar um banco de dados 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unos do ITA, provavelmente esta dependênc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uncional é verdadeir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RTANTO: Dependência funcional depende d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exto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gras de Inferência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xiomas de Armstro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 (reflexibilidad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 X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 então X+Y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 (aument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 X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 e Y+Z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 então X+Z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 (pseudo transitividad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7160" y="4495680"/>
            <a:ext cx="805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tes axiomas são utilizados para obter o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ECHAM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 um atributo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Axioma 2, diz-se que Y é um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tributo irrelevan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Axioma 3, se Z=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Ø então temos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transitividad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tot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echam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077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onha este conjunto de Dependências Funcionai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,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,D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 eu tenho A, posso obter A,B,C,D,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z-se que o “fecho de A” é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{A,B,C,D,E}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echamento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ê entendeu o conceito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,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,D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ã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{A,B,C,D,E}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{B,D}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{C}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{D}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pendência Funcional Redundan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,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,D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ã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{A,B,C,D,E}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DF4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A</a:t>
            </a:r>
            <a:r>
              <a:rPr b="0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é redundante! O lado direito desta Dependência Funcional pertence a A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smo quando removemos a DF4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tributo Irrelevan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,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,D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ão, se eu remover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da DF1, tem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{A,B,C,D,E}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go, na DF1, o atributo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é irrelevante pois, ao removê-lo, A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ão se altera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tributo Relevan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D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,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,D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ão, se eu removo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na DF1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{A}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go, na DF1, o atributo A é relevante pois, ao removê-lo, A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 altera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goritmo de Bernstei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1480" y="2286000"/>
            <a:ext cx="7221600" cy="34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do uma lista de Dependências Funcionai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ova as FDs redundant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ova os atributos irrelevant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grupe as FDs de mesmo “lado esquerdo”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m cada agrupamento, o “lado esquerdo” é a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ave primária de uma relação. A união dos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lados direitos” são os atributos “não chave”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 relaçã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goritmo de Bernstein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empl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800" y="2362320"/>
            <a:ext cx="583308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sta de Dependências Funcionai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,c-&gt;d,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-&gt;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,d-&gt;e,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,e,f-&gt;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53360" y="3884760"/>
            <a:ext cx="31600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segue ver algu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dundância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úd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pendência Funcion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gras de Inferê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 Algoritmo de Bernste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ma implementação em Exc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gunta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rdenar pelo lado esquerd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362320"/>
            <a:ext cx="1919520" cy="37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-&gt;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,c-&gt;d,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,d-&gt;e,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,e,f-&gt;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9880" y="2590920"/>
            <a:ext cx="1295640" cy="609480"/>
          </a:xfrm>
          <a:prstGeom prst="wedgeRectCallout">
            <a:avLst>
              <a:gd name="adj1" fmla="val -188236"/>
              <a:gd name="adj2" fmla="val 94273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Óbvio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3733920"/>
            <a:ext cx="1981080" cy="609480"/>
          </a:xfrm>
          <a:prstGeom prst="wedgeRectCallout">
            <a:avLst>
              <a:gd name="adj1" fmla="val -122356"/>
              <a:gd name="adj2" fmla="val 131773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dundante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pós eliminar redundâncias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2362320"/>
            <a:ext cx="191952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-&gt;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,c-&gt;d,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,d-&gt;e,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,e,f-&gt;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escrever de modo que no lado direito fique apenas 1 atribu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2362320"/>
            <a:ext cx="191952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-&gt;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,c-&gt;d,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,d-&gt;e,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,e,f-&gt;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8160" y="2362320"/>
            <a:ext cx="174888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-&gt;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,c-&gt;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,c-&gt;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,d-&gt;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,d-&gt;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,e,f-&gt;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19520" y="342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rdenar pelo segundo atribu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2362320"/>
            <a:ext cx="213336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-&gt;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,c-&gt;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,d-&gt;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,c-&gt;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,d-&gt;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,e,f-&gt;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4080" y="3886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2438280"/>
            <a:ext cx="213336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-&gt;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,c-&gt;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,c-&gt;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,d-&gt;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,d-&gt;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,e,f-&gt;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mova atributos irrelevan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2362320"/>
            <a:ext cx="213336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b-&gt;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,c-&gt;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,d-&gt;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,c-&gt;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,d-&gt;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,e,f-&gt;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12040" y="2971800"/>
            <a:ext cx="37897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ando removo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a DF1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{b,c,d,e,f,g} e a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+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go,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é relevante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mover atributos irrelevan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2362320"/>
            <a:ext cx="213336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&gt;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,c-&gt;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,d-&gt;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,c-&gt;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,d-&gt;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,e,f-&gt;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11320" y="3200400"/>
            <a:ext cx="387504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ando removo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a DF 1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{a,c,d,e,f,g} e b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+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go,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é relevante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mover atributos irrelevan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2362320"/>
            <a:ext cx="213336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-&gt;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b,c-&gt;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,d-&gt;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,c-&gt;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,d-&gt;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,e,f-&gt;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78160" y="2743200"/>
            <a:ext cx="387504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ando removo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a DF 2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c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{b,c,d,e,f,g} 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c+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go,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é relevante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mover atributos irrelevan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2362320"/>
            <a:ext cx="213336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-&gt;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c-&gt;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,d-&gt;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,c-&gt;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,d-&gt;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,e,f-&gt;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30440" y="2743200"/>
            <a:ext cx="387504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ando removo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a DF 2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{a,c,d,e,f,g} 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+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go,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é relevante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mover atributos irrelevan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2362320"/>
            <a:ext cx="213336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-&gt;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,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&gt;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,d-&gt;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,c-&gt;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,d-&gt;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,e,f-&gt;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76840" y="2666880"/>
            <a:ext cx="399816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ando removo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a DF 2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b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{a,b,c,d,e,f,g} 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b+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go,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é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rrelevan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72880" y="4267080"/>
            <a:ext cx="51123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go, posso reescrever DF 2 como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-&gt;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mover atributos irrelevan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2362320"/>
            <a:ext cx="213336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-&gt;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-&gt;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,d-&gt;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,c-&gt;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,d-&gt;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,e,f-&gt;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96920" y="2666880"/>
            <a:ext cx="501012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a DF 3 só tem um atributo no la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querdo. Logo, não tem co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r atributo irrelevan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delo Relacional (Codd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ma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laçã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é uma tabela em que as colunas são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tributo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e as linhas são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upla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almente, representamos uma relação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omo: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A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A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…,A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 onde cada A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é um atributo d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omíni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de um atributo é o conjunto dos possíveis valores daquele atributo. DOM(A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 é o domínio do atributo A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 prática, DOM(A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 é um conjunto finit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guns passos mais tarde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2362320"/>
            <a:ext cx="213336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-&gt;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,c-&gt;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,c-&gt;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,d-&gt;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,d-&gt;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,e,f-&gt;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2286000"/>
            <a:ext cx="213372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-&gt;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-&gt;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-&gt;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-&gt;f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-&gt;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,e,f-&gt;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3886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rá que ainda tem redundância?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2362320"/>
            <a:ext cx="2133360" cy="33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-&gt;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-&gt;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-&gt;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f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,e,f-&gt;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rá que ainda tem redundância?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2362320"/>
            <a:ext cx="2133360" cy="33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901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,b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&gt;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-&gt;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-&gt;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f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,e,f-&gt;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29000" y="2514600"/>
            <a:ext cx="518148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lculo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b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sem usar a DF1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b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{a,b,d,f}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o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b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temos que DF1 n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é redundan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F 2 é redundante?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2362320"/>
            <a:ext cx="2133360" cy="33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-&gt;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,b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&gt;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-&gt;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f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,e,f-&gt;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19520" y="2514600"/>
            <a:ext cx="579096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lculo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b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sem usar a DF2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b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{a,b,c,d,e,f,g}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o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b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temos que DF2 é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dundante e pode ser ELIMINADA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F 2 é redundnte?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2362320"/>
            <a:ext cx="2133360" cy="28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-&gt;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,b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&gt;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f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,e,f-&gt;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2514600"/>
            <a:ext cx="579096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lculo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b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sem usar a DF2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b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{a,b,c,d,e,f,g}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o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b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temos que DF2 é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dundante e pode ser ELIMINADA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F 2 é redundnte?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2362320"/>
            <a:ext cx="2133360" cy="23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-&gt;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&gt;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f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,e,f-&gt;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2514600"/>
            <a:ext cx="579096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lculo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sem usar a DF2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{c,e,f}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o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temos que DF2 não é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dundante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guns passos mais tarde…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2362320"/>
            <a:ext cx="2133360" cy="23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-&gt;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f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,e,f-&gt;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almente, agrupo as DFs que têm o mesmo lado esquerdo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2362320"/>
            <a:ext cx="2133360" cy="23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-&gt;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f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,e,f-&gt;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2895480"/>
            <a:ext cx="213336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-&gt;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d,e,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,e,f-&gt;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3276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491720" y="4648320"/>
            <a:ext cx="417348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ada DF é uma tabel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ado esquerdo é chave primári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isão Geral do Processo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76920" y="2895480"/>
            <a:ext cx="213336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-&gt;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d,e,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,e,f-&gt;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3276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90720" y="2438280"/>
            <a:ext cx="191952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,c-&gt;d,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,b-&gt;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,d-&gt;e,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,e,f-&gt;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-&gt;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mplementação em Excel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6400" y="2438280"/>
            <a:ext cx="8006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ecutar a planilha Bernstein.xl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bilitar a execução de macr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ecutar a macro Bernstei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brir um arquivo texto com uma lista de DF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 você abriu X.TXT então o resultado é impress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m X.OU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s passos intermediários do algoritmo fica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mazendos nas tabs Step1,…,Step4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pendência Funcional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ma Visão Intuitiv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38080" y="2666880"/>
          <a:ext cx="8153640" cy="2733840"/>
        </p:xfrm>
        <a:graphic>
          <a:graphicData uri="http://schemas.openxmlformats.org/drawingml/2006/table">
            <a:tbl>
              <a:tblPr/>
              <a:tblGrid>
                <a:gridCol w="4416480"/>
                <a:gridCol w="452520"/>
                <a:gridCol w="3284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odelo Relacional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pendência Funcional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EMPREGADO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(</a:t>
                      </a:r>
                      <a:r>
                        <a:rPr b="0" lang="en-US" sz="2000" spc="-1" strike="noStrike" u="sng">
                          <a:solidFill>
                            <a:srgbClr val="003366"/>
                          </a:solidFill>
                          <a:uFillTx/>
                          <a:latin typeface="Courier New"/>
                        </a:rPr>
                        <a:t>EMPR#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,NOME,DEPT#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EMPR#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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NOM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DEPARTAMENTO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(</a:t>
                      </a:r>
                      <a:r>
                        <a:rPr b="0" lang="en-US" sz="2000" spc="-1" strike="noStrike" u="sng">
                          <a:solidFill>
                            <a:srgbClr val="003366"/>
                          </a:solidFill>
                          <a:uFillTx/>
                          <a:latin typeface="Courier New"/>
                        </a:rPr>
                        <a:t>DEPT#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,GERE#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EMPR#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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DEPT#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PRODUTO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(</a:t>
                      </a:r>
                      <a:r>
                        <a:rPr b="0" lang="en-US" sz="2000" spc="-1" strike="noStrike" u="sng">
                          <a:solidFill>
                            <a:srgbClr val="003366"/>
                          </a:solidFill>
                          <a:uFillTx/>
                          <a:latin typeface="Courier New"/>
                        </a:rPr>
                        <a:t>PROD#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2000" spc="-1" strike="noStrike" u="sng">
                          <a:solidFill>
                            <a:srgbClr val="003366"/>
                          </a:solidFill>
                          <a:uFillTx/>
                          <a:latin typeface="Courier New"/>
                        </a:rPr>
                        <a:t>DEPT#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,QUTD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DEPT#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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GERE#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PROD#,DEPT#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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QUT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empenho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4400" y="2209680"/>
            <a:ext cx="8445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presentando atributos com números de 1 a 100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o invés de letras de a até z, foi possível ger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quivos de entrada com até 100 DF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mpo de processamento é proporcional ao quadra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 tamanho do arquivo de entrad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stes excecutados com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l Core 2 Quad Q6600 2.4GHz 3GB RAM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D 7500 RP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ndows XP 2002 SP3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cel 2000 Ver. 9.0.272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960480"/>
            <a:ext cx="914400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80880" y="23623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jam A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e A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dois Atribut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ja f:DOM(A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DOM(A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  uma “função” tal que, a qualquer momento, se a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M(A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 então existe no máximo um b 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DOM(A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 não é uma função matemática pois, no tempo, para um mesmo valor de a podemos ter diferentes valores de b. No entanto, sempre que fornecemos o valor de a obtemos 0 ou 1 valores de b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 estabelece uma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pendência funciona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entre A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e A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pendência Funcional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ma Visão Form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80880" y="22860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ação: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 pode conter um ou mais atribut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 pode conter um ou mais atribut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zemos que Y é dependente funcionalmente de X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e qu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DF é definida num determinado contexto. Se o contexto muda, a DF pode deixar de val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ão basta analisar os dados! Dados representam um instante no tempo. A dependência funcional tem que valer sempre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9144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pendência Funcional (DF)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taçã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ê entedeu mesmo o conceito?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5435640"/>
            <a:ext cx="175248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39760" y="4749840"/>
            <a:ext cx="129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???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40336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istem 6 bilhões de seres human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3 bilhões de mulher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ocurando 1 mulher por segundo, durante 24h/dia, todos os dias, levaríamos 95 anos para pesquisar 3bilhões de mulheres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e quem é esta boca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90720" y="4741920"/>
            <a:ext cx="205740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ê entedeu mesmo o conceito?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4503600"/>
            <a:ext cx="175248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97120" y="2403360"/>
            <a:ext cx="3411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X=Boca da Angelina Jol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Y=Angelina Jol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90720" y="3809880"/>
            <a:ext cx="2057400" cy="1506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632560" y="2496960"/>
            <a:ext cx="351144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erdadeiro ou Falso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24840" y="2368440"/>
            <a:ext cx="50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CPF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Situação de Crédi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14:15:45Z</dcterms:created>
  <dc:creator>Antonio Magno Lima Espeschit</dc:creator>
  <dc:description/>
  <dc:language>en-US</dc:language>
  <cp:lastModifiedBy>Antonio Magno Lima Espeschit</cp:lastModifiedBy>
  <dcterms:modified xsi:type="dcterms:W3CDTF">2009-05-24T21:45:55Z</dcterms:modified>
  <cp:revision>18</cp:revision>
  <dc:subject/>
  <dc:title>The Bernstein’s Algorithm</dc:title>
</cp:coreProperties>
</file>