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18DA-2527-43A9-A548-0A58376B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E04-20A1-477A-BD77-29881692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13F-A88E-42DB-B568-EA6D4114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E3F-2172-4939-8FB6-FB618DD9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808-B112-4C6C-AD69-083A53C8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370-F2D4-4FE1-A2E3-3043222A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E8EC-C2BE-4F6D-8B98-AA1FDA9F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4FD-4DAE-49B0-A74F-C3740785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1A6-0CB6-4372-82E5-0BAE2B58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8A6-0CFB-41B2-9B58-77064127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221-4399-43F8-9905-B87CC6AB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47F-10A9-4E21-A8E0-39BA6363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4530-D00A-4904-A640-9BBEF245DC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5FFA-0BB2-44E7-AC1D-C50476B2D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in.ufpe.br/~fatc/ACI/JanelaParzenKVizinhos.pdf" TargetMode="External"/><Relationship Id="rId2" Type="http://schemas.openxmlformats.org/officeDocument/2006/relationships/hyperlink" Target="http://www.cin.ufpe.br/~fatc/ACI/JanelaParzenKVizinhos.pdf" TargetMode="External"/><Relationship Id="rId3" Type="http://schemas.openxmlformats.org/officeDocument/2006/relationships/hyperlink" Target="http://www.vision.ime.usp.br/~nina/cursos/ibi5031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71643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ta do trabalho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senvolver e testar o classificador descrito em (Gadanho 1999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nanda Monteiro Elio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226, Professor: C. H. For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181160" cy="14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D56-F6FC-4F99-9975-2ADB810D5C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fluências emocionais [-1,1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4149720"/>
            <a:ext cx="91440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2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(emocao [j] &gt; ActivationThresho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 [i] = A[i] + Cef [j][i] * emocao [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não A [i] = 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10800000">
            <a:off x="0" y="422064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tivationThreshold=0.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92360" y="620640"/>
            <a:ext cx="4146480" cy="328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627-FCFD-4B30-B3A3-F10E65B784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Sistema hormonal: [-1,1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ra todos os hormônio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em é maior: a influência emocional 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atual,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ou o 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hormôn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o passo anterior? A emoção está acabando ou subindo? 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“Me machuquei agora ou ante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Se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hormônio for maior ou igu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a=0.09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nã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a=0.9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rmônio[i]=</a:t>
            </a:r>
            <a:r>
              <a:rPr b="0" lang="pt-BR" sz="3200" spc="-1" strike="noStrike">
                <a:solidFill>
                  <a:srgbClr val="333399"/>
                </a:solidFill>
                <a:latin typeface="Arial"/>
              </a:rPr>
              <a:t> alfa*H[i]+ (1-alfa)*Ant[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t[] Influência Emocional do passo ant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F58-D406-4D83-A340-559C3125E0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Valores hormonai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is sistemas de diferentes parâmet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99"/>
                </a:solidFill>
                <a:latin typeface="Arial"/>
              </a:rPr>
              <a:t>attack gai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quando as emoções e suas influ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333399"/>
                </a:solidFill>
                <a:latin typeface="Arial"/>
              </a:rPr>
              <a:t>decay gain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pt-BR" sz="3200" spc="-1" strike="noStrike">
                <a:solidFill>
                  <a:srgbClr val="333399"/>
                </a:solidFill>
                <a:latin typeface="Arial"/>
              </a:rPr>
              <a:t>attack gai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é muito mais alto do que 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ecay gain.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im, a queda das emoções é lenta enquanto que a emergência de novas emoções é mais ráp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101080" y="333360"/>
            <a:ext cx="561960" cy="666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399960" cy="942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03640" y="3213000"/>
            <a:ext cx="51444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6BD-24FB-48E1-9A78-C2F3087A9E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 Sistema Hormonal [-1,1]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Quanto mais forte for a dependência sobre certo sentimento, maior será a quantidade produzida, pela emoção, do hormônio associa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459640" y="0"/>
            <a:ext cx="44928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82A-5065-4171-A4BA-231C5F34EB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0520"/>
            <a:ext cx="3973680" cy="6837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FC6-DA2A-49C7-8231-2777E3B636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e dos pesos: “agente otimist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entimento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que influenciam a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felicidade </a:t>
            </a:r>
            <a:r>
              <a:rPr b="1" i="1" lang="en-US" sz="3200" spc="-1" strike="noStrike">
                <a:solidFill>
                  <a:srgbClr val="009999"/>
                </a:solidFill>
                <a:latin typeface="Wingdings"/>
                <a:ea typeface="Wingdings"/>
              </a:rPr>
              <a:t>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emperatura, comendo e chei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 de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temperatura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depende do uso dos motores, sendo então o mais pres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Único a ser alterado para se obter um agente “otimist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odos os outros pesos originais serão mantido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290-A7DF-4C5A-9627-845475766C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cc"/>
                </a:solidFill>
                <a:latin typeface="Arial"/>
              </a:rPr>
              <a:t>Teste dos pesos, CEF’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0080" y="2492280"/>
            <a:ext cx="9043920" cy="205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A23-E9B3-4774-A05E-FBD13FE8A3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so  0.2, peso 0.6, peso 0.8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: 2216 iteraçõ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890960" cy="115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282840"/>
            <a:ext cx="4749840" cy="3575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4260960" cy="514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716360" y="0"/>
            <a:ext cx="4154760" cy="38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F4C-E195-44B9-B007-458C27662F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gente “Otimista”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000240"/>
            <a:ext cx="4791240" cy="3857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356000" y="3048120"/>
            <a:ext cx="4524480" cy="3809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1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so  0.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so 0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86F-5A10-4ECE-A2C4-C140D4C8E8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181160" cy="1409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71640" y="-360"/>
            <a:ext cx="6408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ficação line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7410600" cy="570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B00-41C2-4069-8391-49F0158248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NA’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stema computacional constituído por neurônios, que são elementos processadores interligados, trabalhando em paral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 principais áreas de atuação são: classificação de padrões e previs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s pesos representam a experiência ganha como resultado das n-apresentações dos padr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útil quando o ambiente gerador dos dados muda constante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590400" cy="70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628-E6E1-43F3-84FC-33D7458513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Referênci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1] Cardoso, Renata; Carvalho, Francisco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esso: 10/04/2008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.ufpe.br/~fatc/ACI/JanelaParzenKVizinhos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2] Damásio, A. R. (1994): Descartes’Error: emotion, reason and the human brain.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w York: Pengu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3] Forster, C. Aulas e material da disciplina CC226: ITA, SJC,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danho, S. C. and Hallam, J. (1998): Exploring the Role of Emotions in Autonomous Robot Learning. In AAAI Fall Symposium | Emotional and Intelligent: The tangled knot of cognition, Technical Report FS-98-03, pages 84- 89. AAAI P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5] Gadanho, S. (1999): Reinforcement Learning in Autonomous Robots: An Empirical Investigation of the Role of Emotions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D thesis, University of Edinburg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6] Hirata, Nina S. T. Acesso: 10/04/2008. I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vision.ime.usp.br/~nina/cursos/ibi503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7] Mingoti, Sueli Aparecida.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nálise de dados através de métodos de estatística multivaria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UFMG, Belo Horizonte: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8] Zuben, Fernando e Castro, Leandro. Regressão paramétrica e não paramétrica, e redes neurais do tipo RBF. Acesso: abril de 2008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: &lt;ftp://ftp.dca.fee.unicamp.br/pub/docs/vonzuben/ia353_03/topico8_03.pdf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9]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goritmos de aprendiz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Acesso: 12/05/2008. In: &lt; http://www.ica.ele.puc-rio.br/cursos/download/DM-backpropagation.pdf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10]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des neurais artificiai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Vellasco, Marley Maria Bernardes Rebuzzi. Acesso: 12/05/2008. In: &lt; http://www.ica.ele.puc-rio.br/cursos/download/ICA-introdu%C3%A7%C3%A3o%20RNs.pdf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11] Descoberta de conhecimento em base de dados de monitoramento ambiental para avaliação da qualidade da água. Silva, Inara Aparec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:&lt; http://pgfma.ufmt.br/pagina/index.php?option=com_docman&amp;task=doc_view&amp;gid=9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BF3-3B26-4584-9D5F-B0EA03EB7D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biente gerador dos dado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simulad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17080" y="260280"/>
            <a:ext cx="590400" cy="704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43560" cy="413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10160" y="2565360"/>
            <a:ext cx="4533840" cy="40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EEB-19C1-430D-A1A3-449663F1D1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três comportamentos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íveis para o rob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andos baseados nas leituras dos sens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590400" cy="70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2670480" cy="2470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6939000" cy="16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8EE-8DAA-49C5-A8B3-2CCA352372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37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450072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95280" y="1916280"/>
            <a:ext cx="1658880" cy="628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045040" cy="48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872-BD0C-42B6-8296-98FC7443DF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4582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pecificações para as entradas/sensações [0,1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éficit de energia do rob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star a com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ando o robô está adquirindo energ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 o robô estiver trombando em algum obje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emperatur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umenta com alto uso do motos e retorna a zero com baixo us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ansaç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umenta se o robô não se mover e é zerado quando o robô seleciona algum comporta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lfa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ó se houver fonte de comida disponí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quecimen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pendente da intensidade de luz percebida pelos sensores de luz do rob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roximidad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ximidade do obstáculo mais próximo percebido pelos sensores de distâ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181160" cy="14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05E-6523-4BA6-9445-CEAD6D2013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CEF’s: Dependências das emoções/ sentiment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robô está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feli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nada há de errado. Estará mais feliz se estiver usando muito seus motores ou  obtendo energia. Até mesmo o cheiro de comida pode torná-lo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fel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iver pouca energia e não a estiver obtendo: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tris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Ficará ainda mais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tris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não puder captar qualquer lu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rombar em qualquer obstáculo, então a dor fará com que sinta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me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erá menos medo se estiver com fome ou can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robô faminto tende a ficar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nervo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17080" y="333360"/>
            <a:ext cx="55224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0BB-F8FF-4A7E-BE1C-A1CD11AAED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ntimentos” [0,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eficienteHormonal = 0.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Sentimento [i] = CoeficienteHormonal * H [i]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sensacao[i]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entimento[i]&gt;1)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mento[i]=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ão  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ntimento[i]&lt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ntimento[i]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590400" cy="704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7093080" cy="14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D69-F6DF-4AF7-9A80-CD5C61ACC7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moção= bias + Cef [i][j] * sentimento [j]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intervalo: [0,1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17080" y="333360"/>
            <a:ext cx="561960" cy="685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5300640" cy="39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D32-0027-4D35-A6A8-9F44D7421B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4:52:21Z</dcterms:created>
  <dc:creator>user</dc:creator>
  <dc:description/>
  <dc:language>en-US</dc:language>
  <cp:lastModifiedBy>user</cp:lastModifiedBy>
  <dcterms:modified xsi:type="dcterms:W3CDTF">2008-06-10T15:15:46Z</dcterms:modified>
  <cp:revision>52</cp:revision>
  <dc:subject/>
  <dc:title>Slide 1</dc:title>
</cp:coreProperties>
</file>