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43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962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0"/>
            <a:ext cx="2962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940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672400"/>
            <a:ext cx="2962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B1261-9F66-4DDC-A028-3949EA3129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C5005-E8DE-43F1-8B87-19F03EA5C1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AAFA-0778-4453-8540-6455424682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C0D50-DDFB-48F8-97E9-9F3C9C82A9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4624C-C1D4-4645-98F4-3BE88DFBF6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22BB9-FF1C-4BC7-9351-74A07A446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E3F3-0B89-46F2-A93F-5626BF90F7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7C75-EC38-466E-A21A-D2EAEA4CD0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020BF-5A71-46C3-88EA-E94F299FB4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EE992-9109-421B-AC20-5D6F01E25E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E598F-7A64-4E32-B428-B432DA52DA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8F326-B5A8-4EB0-80C9-C875B78BC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51DDA-92D5-48B0-AB06-34E79D78B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864EA-4841-4E1A-831C-C1E70F08F4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C2115-CCDC-41F1-B3A0-82850BD0E2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CE49B-7C3D-47EA-9520-7F130EA3F3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D893C-2209-400F-936B-7C9456B52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3B93F-A316-4FB6-B797-05F18B0A0F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1EAF3-F401-4285-861A-20A36B028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C680B-C293-4546-A9C4-8F8567C9DB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6952F-C43F-4B7A-8B54-4D25143B4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71C4E-56A3-44A2-9E5A-182E69A607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129B6-D6AE-4CB4-83FA-3101C6CFB7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67975-62A6-4A19-BDA0-D3AB47AC4F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8BE24-83EB-4A96-A3D7-2AE1C71E30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4E258-B194-4357-A2EE-94F8E83B94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315EA-53D5-4A03-820D-B17C605D72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90A5C-FD2C-4BCD-AA82-3D9232B793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A7189-A91C-40CF-90B4-144C0C4683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4E14C-C172-4658-874D-5AF9613981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1560" y="685800"/>
            <a:ext cx="45669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12FC2-4524-4613-8290-BCF6EFCD9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7DEE8-D75B-4510-AAC0-955C644A0C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1D351-ECF8-48A3-A307-87BA49B049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6264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85266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63160" y="3740400"/>
            <a:ext cx="85266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16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6040" y="115884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9280" y="115884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63160" y="374040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6040" y="374040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9280" y="374040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160" y="1158840"/>
            <a:ext cx="852660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6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852660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63160" y="281160"/>
            <a:ext cx="85662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6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16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63160" y="1158840"/>
            <a:ext cx="852660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Aft>
                <a:spcPts val="64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248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160" y="3740400"/>
            <a:ext cx="85266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85266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160" y="3740400"/>
            <a:ext cx="85266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16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248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6040" y="115884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9280" y="115884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160" y="374040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6040" y="374040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9280" y="3740400"/>
            <a:ext cx="274536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852660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63160" y="281160"/>
            <a:ext cx="85662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Aft>
                <a:spcPts val="6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6316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374040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316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158840"/>
            <a:ext cx="416088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3160" y="3740400"/>
            <a:ext cx="852660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spcAft>
                <a:spcPts val="64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hyperlink" Target="mailto:danielbaggio@gmail.com" TargetMode="External"/><Relationship Id="rId5" Type="http://schemas.openxmlformats.org/officeDocument/2006/relationships/hyperlink" Target="mailto:douglasym@gmail.com" TargetMode="External"/><Relationship Id="rId6" Type="http://schemas.openxmlformats.org/officeDocument/2006/relationships/hyperlink" Target="mailto:tcdias@gmail.com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3160" y="281160"/>
            <a:ext cx="856620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63160" y="1158840"/>
            <a:ext cx="8526600" cy="49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27010" r="0" b="52127"/>
          <a:stretch/>
        </p:blipFill>
        <p:spPr>
          <a:xfrm>
            <a:off x="0" y="-79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rcRect l="0" t="54126" r="0" b="23777"/>
          <a:stretch/>
        </p:blipFill>
        <p:spPr>
          <a:xfrm>
            <a:off x="0" y="6464160"/>
            <a:ext cx="9144000" cy="3938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79280" y="6502320"/>
            <a:ext cx="8964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aniel Lélis Baggio | </a:t>
            </a:r>
            <a:r>
              <a:rPr b="0" lang="en-GB" sz="1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danielbaggio@gmail.com</a:t>
            </a:r>
            <a:r>
              <a:rPr b="1" lang="en-GB" sz="1000" spc="-1" strike="noStrike">
                <a:solidFill>
                  <a:srgbClr val="ccccff"/>
                </a:solidFill>
                <a:latin typeface="Arial"/>
                <a:ea typeface="Arial"/>
              </a:rPr>
              <a:t> |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ouglas Yamashita de Moura</a:t>
            </a:r>
            <a:r>
              <a:rPr b="1" lang="en-GB" sz="1000" spc="-1" strike="noStrike">
                <a:solidFill>
                  <a:srgbClr val="ccccff"/>
                </a:solidFill>
                <a:latin typeface="Arial"/>
                <a:ea typeface="Arial"/>
              </a:rPr>
              <a:t> | </a:t>
            </a:r>
            <a:r>
              <a:rPr b="0" lang="en-GB" sz="1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douglasym@gmail.com</a:t>
            </a:r>
            <a:r>
              <a:rPr b="1" lang="en-GB" sz="1000" spc="-1" strike="noStrike">
                <a:solidFill>
                  <a:srgbClr val="ccccff"/>
                </a:solidFill>
                <a:latin typeface="Arial"/>
                <a:ea typeface="Arial"/>
              </a:rPr>
              <a:t> | 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Thomás Cavichioli Dias</a:t>
            </a:r>
            <a:r>
              <a:rPr b="1" lang="en-GB" sz="1000" spc="-1" strike="noStrike">
                <a:solidFill>
                  <a:srgbClr val="ccccff"/>
                </a:solidFill>
                <a:latin typeface="Arial"/>
                <a:ea typeface="Arial"/>
              </a:rPr>
              <a:t> | </a:t>
            </a:r>
            <a:r>
              <a:rPr b="0" lang="en-GB" sz="1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tcdias@gmail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8207280" y="0"/>
            <a:ext cx="897120" cy="3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162400"/>
            <a:ext cx="9144000" cy="169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670040"/>
            <a:ext cx="914400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8cc9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0600" y="2494080"/>
            <a:ext cx="7942320" cy="14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66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51560" y="6297480"/>
            <a:ext cx="15494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I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95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spcAft>
                <a:spcPts val="649"/>
              </a:spcAft>
              <a:buClr>
                <a:srgbClr val="2db6b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spcAft>
                <a:spcPts val="649"/>
              </a:spcAft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276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27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0600" y="2421000"/>
            <a:ext cx="79549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Arial"/>
              </a:rPr>
              <a:t>Daniel Baggio</a:t>
            </a:r>
            <a:br>
              <a:rPr sz="2400"/>
            </a:br>
            <a:r>
              <a:rPr b="0" lang="en-GB" sz="2400" spc="-1" strike="noStrike">
                <a:solidFill>
                  <a:srgbClr val="6666ff"/>
                </a:solidFill>
                <a:latin typeface="Arial"/>
              </a:rPr>
              <a:t>Douglas Moura</a:t>
            </a:r>
            <a:br>
              <a:rPr sz="2400"/>
            </a:br>
            <a:r>
              <a:rPr b="0" lang="en-GB" sz="2400" spc="-1" strike="noStrike">
                <a:solidFill>
                  <a:srgbClr val="6666ff"/>
                </a:solidFill>
                <a:latin typeface="Arial"/>
              </a:rPr>
              <a:t>Thomás Dias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Detecção rápida de faces através de uma cascata de feições simples combinadas usando-se Adaptive Boo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0600" y="4356000"/>
            <a:ext cx="6400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3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766"/>
                </a:solidFill>
                <a:latin typeface="Arial"/>
                <a:ea typeface="DejaVu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7000"/>
              </a:lnSpc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720800"/>
            <a:ext cx="1627200" cy="6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1 (primeiro classificador)</a:t>
            </a: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918320" cy="34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1 (segundo classificador)</a:t>
            </a: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24800" cy="34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1 (terceiro classificador)</a:t>
            </a: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38360" y="1995480"/>
            <a:ext cx="771984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1 (resultado)</a:t>
            </a: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766880"/>
            <a:ext cx="754380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Algorit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97040" y="1733400"/>
            <a:ext cx="574992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0200" y="1676520"/>
            <a:ext cx="2943000" cy="4197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51080" y="1676520"/>
            <a:ext cx="2868840" cy="4197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105000" y="1676520"/>
            <a:ext cx="2903760" cy="4197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560" y="1636560"/>
            <a:ext cx="2933640" cy="4278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0200" y="1636560"/>
            <a:ext cx="2943000" cy="430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ot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160" y="1173240"/>
            <a:ext cx="85388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Introdução</a:t>
            </a:r>
            <a:br>
              <a:rPr sz="2600"/>
            </a:b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Metodologia</a:t>
            </a:r>
            <a:br>
              <a:rPr sz="2600"/>
            </a:b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Resultados</a:t>
            </a:r>
            <a:br>
              <a:rPr sz="2600"/>
            </a:b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CC-226 - Demonstra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Conclusõ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560" y="1641600"/>
            <a:ext cx="2933640" cy="430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71880" y="1676520"/>
            <a:ext cx="2911320" cy="4224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19400" y="1676520"/>
            <a:ext cx="2897280" cy="4197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1160" y="1052640"/>
            <a:ext cx="886284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Retângul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Fáceis de serem calcul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Áreas brancas são subtraídas das áreas pr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Integral Image – Representação especial que torna a extração da feature mais ráp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0120" y="3200400"/>
            <a:ext cx="4470480" cy="2951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29200" y="3164040"/>
            <a:ext cx="3657600" cy="32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Cálculo das Features – </a:t>
            </a:r>
            <a:r>
              <a:rPr b="1" i="1" lang="en-GB" sz="2800" spc="-1" strike="noStrike">
                <a:solidFill>
                  <a:srgbClr val="6666ff"/>
                </a:solidFill>
                <a:latin typeface="Arial"/>
              </a:rPr>
              <a:t>Integral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160" y="1173240"/>
            <a:ext cx="886284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Soma dos valores de cada pixel (x,y)</a:t>
            </a: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Pode ser rapidamente computada com somente uma passagem pela im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24460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Cálculo das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160" y="1052640"/>
            <a:ext cx="886284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Soma no interior de um Retângu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Sejam A, B, C e D os valores dos retângulos considerando-se o canto superior esquerdo da im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Logo, a soma dos valores do retângulo ABCD é dada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  <a:ea typeface="DejaVu Sans"/>
              </a:rPr>
              <a:t>SOMA = A – B – C + 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305080" cy="2190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0920" y="5559480"/>
            <a:ext cx="864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0080" indent="-272880" algn="ctr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874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  <a:ea typeface="DejaVu Sans"/>
              </a:rPr>
              <a:t>Somente três adições são necessárias para qualquer tamanho de retângul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2244600" cy="215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656160" y="3151080"/>
            <a:ext cx="1657080" cy="720720"/>
          </a:xfrm>
          <a:custGeom>
            <a:avLst/>
            <a:gdLst>
              <a:gd name="textAreaLeft" fmla="*/ 258840 w 1657080"/>
              <a:gd name="textAreaRight" fmla="*/ 1450080 w 165708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AdaBoost: Super Efficient Features Sel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160" y="1173240"/>
            <a:ext cx="886284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Classificadores fracos =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A cada iteraçã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Calculam-se os valores de cada filtro em cada exemp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Ordenam-se os exemplares pelos valores dos fil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Seleciona-se o melhor filtro / threshold (= Feature)</a:t>
            </a: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Recalculam-se os pesos dos exemp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Principais features identific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5880" y="3809880"/>
            <a:ext cx="2133720" cy="2133720"/>
          </a:xfrm>
          <a:prstGeom prst="rect">
            <a:avLst/>
          </a:prstGeom>
          <a:ln w="36720">
            <a:solidFill>
              <a:srgbClr val="000000"/>
            </a:solidFill>
            <a:round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5464080" cy="4089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2057400" cy="2057400"/>
          </a:xfrm>
          <a:prstGeom prst="rect">
            <a:avLst/>
          </a:prstGeom>
          <a:ln w="36720">
            <a:solidFill>
              <a:srgbClr val="000000"/>
            </a:solidFill>
            <a:round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Principais features identific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97040" y="117324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343320" y="117324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916600" y="1144440"/>
            <a:ext cx="1855800" cy="1754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057400" y="3201840"/>
            <a:ext cx="1828800" cy="1828800"/>
          </a:xfrm>
          <a:prstGeom prst="rect">
            <a:avLst/>
          </a:prstGeom>
          <a:ln w="36720">
            <a:solidFill>
              <a:srgbClr val="000000"/>
            </a:solidFill>
            <a:round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800600" y="3201840"/>
            <a:ext cx="1828800" cy="1828800"/>
          </a:xfrm>
          <a:prstGeom prst="rect">
            <a:avLst/>
          </a:prstGeom>
          <a:ln w="36720">
            <a:solidFill>
              <a:srgbClr val="000000"/>
            </a:solidFill>
            <a:round/>
          </a:ln>
        </p:spPr>
      </p:pic>
      <p:sp>
        <p:nvSpPr>
          <p:cNvPr id="174" name=""/>
          <p:cNvSpPr/>
          <p:nvPr/>
        </p:nvSpPr>
        <p:spPr>
          <a:xfrm>
            <a:off x="263520" y="5181480"/>
            <a:ext cx="88804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766"/>
                </a:solidFill>
                <a:latin typeface="Arial"/>
              </a:rPr>
              <a:t>Classificador extremamente rápido (60 microinstruções)</a:t>
            </a:r>
            <a:r>
              <a:rPr b="0" lang="en-GB" sz="20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2766"/>
                </a:solidFill>
                <a:latin typeface="Arial"/>
              </a:rPr>
              <a:t>Ajustado para detectar 100% das faces, com 40% de falsos positivos no primeiro estág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Cascata de classificadores: visando tempo-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3520" y="3741840"/>
            <a:ext cx="853128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Prioridade de rejeição de background nos estágios inicia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Imagem em escala de cinza (8 bits), 320x240, 500 mil janel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Tempo de deteção ~ 10ms (1 face) ~20 ms (nenhuma face)</a:t>
            </a: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25 estágios, 2912 features, menor janela 24x2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Otimizado para encontrar apenas a maior f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</a:rPr>
              <a:t>70% a 80% das janelas são rejeitadas nos 2 primeiros estág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0292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ot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160" y="1173240"/>
            <a:ext cx="8538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Introdução</a:t>
            </a:r>
            <a:br>
              <a:rPr sz="2600"/>
            </a:b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Metodologia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Result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C-226 Demonstra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onclusõ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Pré process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3520" y="1158840"/>
            <a:ext cx="853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</a:rPr>
              <a:t>Conversão para escala de cin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cvCvtColor( img, cinza, CV_BGR2GRAY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RGB[A]-&gt;Gray: Y&lt;-0.299*R + 0.587*G + 0.114*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</a:rPr>
              <a:t>Redimension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cvResize( cinza, imagem_reduzida, CV_INTER_LINEAR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</a:rPr>
              <a:t>Normalização de bri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cvEqualizeHist( imagem_reduzida, imagem_reduzida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1. calcular histograma H para sr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2. normalizar histograma, de forma que a soma seja 25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3. computar a integral do histogra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   </a:t>
            </a: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H’(i) = somatório0≤j≤iH(j)</a:t>
            </a: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4. transformar a imagem usando H’ como look-up table: dst(x,y)=H’(src(x,y))</a:t>
            </a:r>
            <a:r>
              <a:rPr b="0" lang="en-GB" sz="1800" spc="-1" strike="noStrike">
                <a:solidFill>
                  <a:srgbClr val="002766"/>
                </a:solidFill>
                <a:latin typeface="Arial"/>
                <a:ea typeface="DejaVu Sans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ot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160" y="1173240"/>
            <a:ext cx="85388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Introdução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Metodologia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Resultados</a:t>
            </a:r>
            <a:br>
              <a:rPr sz="2600"/>
            </a:b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C-226 Class Experi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onclusõ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7840" y="1503360"/>
            <a:ext cx="6388200" cy="38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22440" y="1544760"/>
            <a:ext cx="6124680" cy="3801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600" y="5486400"/>
            <a:ext cx="85312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4 falsos positivos, 1 falso negativo, 877 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864 x 254 pixels, 1,7 milhões de jane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3520" y="3254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7120" y="1371600"/>
            <a:ext cx="551808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28800" y="1363680"/>
            <a:ext cx="5486400" cy="3894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63520" y="5289480"/>
            <a:ext cx="8531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0 falsos positivos, 2 falsos negativ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571 ms, 450 x 312 pixels, 1,1 milhões de jane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254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7920" y="1825560"/>
            <a:ext cx="86979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3520" y="5289480"/>
            <a:ext cx="8531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4 falsos positivos, 3 falsos negativ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587 ms, 1000 x 400 pixels, 3,9 milhões jane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520" y="1744560"/>
            <a:ext cx="87566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3520" y="3254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02920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3520" y="5289480"/>
            <a:ext cx="8531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1 falso positivo, 2 falsos negativ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255 ms, 473 x 354 pixels, ~1,4 milhões de jane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28800" y="1317600"/>
            <a:ext cx="502920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160" y="1173240"/>
            <a:ext cx="886284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Crescente utilização de análise de padrões para os mais diversos f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Classif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Detecção de objetos / feições / for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Reconhecimento de coma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948360" y="1773360"/>
            <a:ext cx="151308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76720" y="3541680"/>
            <a:ext cx="3483000" cy="2540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92200" y="3645000"/>
            <a:ext cx="3959280" cy="23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63520" y="3254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00200" y="977760"/>
            <a:ext cx="5715000" cy="43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715000" cy="4491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3520" y="5289480"/>
            <a:ext cx="85312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9 falsos positivos, 0 falsos negativ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5,3 s, 1252 x 961 pixels, ~16M janel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sultados - Anál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9818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ot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160" y="1173240"/>
            <a:ext cx="85388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Introdução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Metodologia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Resultados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CC-226 Class Experi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onclusõ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ot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160" y="1173240"/>
            <a:ext cx="85388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Introdução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Metodologia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Resultados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C-226 Class Experi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Conclusõ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Conclus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3520" y="1158840"/>
            <a:ext cx="853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Apresentou-se um algoritmo de detecção de objetos com alta precisão e reduzido tempo de deteçã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O algoritmo apresentado é robusto aos seguintes fat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Iluminação (imagens são normalizadas)</a:t>
            </a: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Escala (o detector pode ser aplicado em diferentes escalas da imagem)</a:t>
            </a: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Tonalidade de pe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Uso de acessórios, barba e big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115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Sexo masculino ou femi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Conclus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3520" y="1158840"/>
            <a:ext cx="853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O uso de uma cascata de classificadores aliados à velocidade de consulta de features complexas possibilita o uso do classificador para aplicações de tempo real (frame rate ~ 30 fps)</a:t>
            </a: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A combinação de classificadores fracos através do meta-algoritmo AdaBoosting possibilita a criação de um classificador de alta acurá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63520" y="281160"/>
            <a:ext cx="85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eferê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3520" y="1158840"/>
            <a:ext cx="8531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Rainer Lienhart and Jochen Maydt. </a:t>
            </a:r>
            <a:r>
              <a:rPr b="1" lang="en-GB" sz="2600" spc="-1" strike="noStrike">
                <a:solidFill>
                  <a:srgbClr val="002766"/>
                </a:solidFill>
                <a:latin typeface="Arial"/>
              </a:rPr>
              <a:t>An Extended Set of Haar-like Features for Rapid Object Detection</a:t>
            </a: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. Submitted to ICIP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Viola, P; Jones, M. </a:t>
            </a:r>
            <a:r>
              <a:rPr b="1" lang="en-GB" sz="2600" spc="-1" strike="noStrike">
                <a:solidFill>
                  <a:srgbClr val="002766"/>
                </a:solidFill>
                <a:latin typeface="Arial"/>
              </a:rPr>
              <a:t>Rapid Object Detection Using a Boosted Cascade of Simple Features</a:t>
            </a: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– (2004)</a:t>
            </a: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1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Alexander Kuranov, Rainer Lienhart, and Vadim Pisarevsky. </a:t>
            </a:r>
            <a:r>
              <a:rPr b="1" lang="en-GB" sz="2600" spc="-1" strike="noStrike">
                <a:solidFill>
                  <a:srgbClr val="002766"/>
                </a:solidFill>
                <a:latin typeface="Arial"/>
              </a:rPr>
              <a:t>An Empirical Analysis of Boosting Algorithms for Rapid Objects With an Extended Set of Haar-like Features</a:t>
            </a: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. Intel Technical Report MRL-TR-July02-01,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" y="1173240"/>
            <a:ext cx="886284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2766"/>
                </a:solidFill>
                <a:latin typeface="Arial"/>
              </a:rPr>
              <a:t>Objetiv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i="1" lang="en-GB" sz="2600" spc="-1" strike="noStrike">
                <a:solidFill>
                  <a:srgbClr val="002766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002766"/>
                </a:solidFill>
                <a:latin typeface="Arial"/>
              </a:rPr>
              <a:t>Construir um classificador de detecção de faces otimizado para operar em tempo-r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Cascata de feições simples combinadas usando-se Adaptive Boo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160" y="1173240"/>
            <a:ext cx="886284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Algoritmo de Detecção de Faces Viola-J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2766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2766"/>
                </a:solidFill>
                <a:latin typeface="Arial"/>
              </a:rPr>
              <a:t>(Viola, P; Jones, M. </a:t>
            </a:r>
            <a:r>
              <a:rPr b="1" lang="en-GB" sz="1400" spc="-1" strike="noStrike">
                <a:solidFill>
                  <a:srgbClr val="002766"/>
                </a:solidFill>
                <a:latin typeface="Arial"/>
              </a:rPr>
              <a:t>Rapid Object Detection Using a Boosted Cascade of Simple Features</a:t>
            </a:r>
            <a:r>
              <a:rPr b="0" lang="en-GB" sz="1400" spc="-1" strike="noStrike">
                <a:solidFill>
                  <a:srgbClr val="002766"/>
                </a:solidFill>
                <a:latin typeface="Arial"/>
              </a:rPr>
              <a:t> – 2004)</a:t>
            </a:r>
            <a:r>
              <a:rPr b="0" lang="en-GB" sz="14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2766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2766"/>
                </a:solidFill>
                <a:latin typeface="Arial"/>
              </a:rPr>
              <a:t>(Smith, P. </a:t>
            </a:r>
            <a:r>
              <a:rPr b="1" lang="en-GB" sz="1400" spc="-1" strike="noStrike">
                <a:solidFill>
                  <a:srgbClr val="002766"/>
                </a:solidFill>
                <a:latin typeface="Arial"/>
              </a:rPr>
              <a:t>www.ics.uci.edu/~smyth/courses/cs175/slides12_viola_jones_face_detection.ppt</a:t>
            </a:r>
            <a:r>
              <a:rPr b="0" lang="en-GB" sz="1400" spc="-1" strike="noStrike">
                <a:solidFill>
                  <a:srgbClr val="002766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2766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Ope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buClr>
                <a:srgbClr val="2db6b3"/>
              </a:buClr>
              <a:buFont typeface="Arial"/>
              <a:buChar char="–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  <a:ea typeface="DejaVu Sans"/>
              </a:rPr>
              <a:t>Cascade of boosted haar-like features class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  <a:ea typeface="DejaVu Sans"/>
              </a:rPr>
              <a:t>Boosted classifier (AdaBoost)</a:t>
            </a:r>
            <a:r>
              <a:rPr b="0" lang="en-GB" sz="2200" spc="-1" strike="noStrike">
                <a:solidFill>
                  <a:srgbClr val="002766"/>
                </a:solidFill>
                <a:latin typeface="Arial"/>
                <a:ea typeface="DejaVu Sans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  <a:ea typeface="DejaVu Sans"/>
              </a:rPr>
              <a:t>Haar-like featu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550"/>
              </a:spcAft>
              <a:buClr>
                <a:srgbClr val="2db6b3"/>
              </a:buClr>
              <a:buFont typeface="Times New Roman"/>
              <a:buChar char="•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766"/>
                </a:solidFill>
                <a:latin typeface="Arial"/>
                <a:ea typeface="DejaVu Sans"/>
              </a:rPr>
              <a:t>Cascade Classifi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0080" indent="-272880">
              <a:lnSpc>
                <a:spcPct val="93000"/>
              </a:lnSpc>
              <a:spcAft>
                <a:spcPts val="601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3520" y="281160"/>
            <a:ext cx="8578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Rotei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160" y="1173240"/>
            <a:ext cx="85388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0120" indent="-330120">
              <a:lnSpc>
                <a:spcPct val="93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3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Introdução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Metodologia</a:t>
            </a:r>
            <a:br>
              <a:rPr sz="2600"/>
            </a:br>
            <a:r>
              <a:rPr b="0" lang="en-GB" sz="2600" spc="-1" strike="noStrike">
                <a:solidFill>
                  <a:srgbClr val="0027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Resultados</a:t>
            </a:r>
            <a:br>
              <a:rPr sz="2600"/>
            </a:b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C-226 Class Experi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7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cccff"/>
                </a:solidFill>
                <a:latin typeface="Arial"/>
              </a:rPr>
              <a:t>Conclusõ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AdaBoost (Adaptive Boosting)</a:t>
            </a: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3520" y="1158840"/>
            <a:ext cx="852948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Treine um classificador si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Classifique os d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Encontre os erros de classif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Pondere os dados, dando maior peso onde o classificador err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Treine um segundo classificador nos dados com pesos no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Combine os dois primeiros classificadores e identifique os erros, ponderando os dados onde o classificador err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Treine um terceiro classificador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buClr>
                <a:srgbClr val="6666ff"/>
              </a:buClr>
              <a:buSzPct val="65000"/>
              <a:buFont typeface="Wingdings" charset="2"/>
              <a:buChar char=""/>
              <a:tabLst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2766"/>
                </a:solidFill>
                <a:latin typeface="Arial"/>
              </a:rPr>
              <a:t>O resultado é a combinação de todos os classific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105000"/>
              </a:lnSpc>
              <a:spcAft>
                <a:spcPts val="649"/>
              </a:spcAft>
              <a:tabLst>
                <a:tab algn="l" pos="0"/>
                <a:tab algn="l" pos="330120"/>
                <a:tab algn="l" pos="787320"/>
                <a:tab algn="l" pos="1244520"/>
                <a:tab algn="l" pos="1701720"/>
                <a:tab algn="l" pos="2158920"/>
                <a:tab algn="l" pos="2616120"/>
                <a:tab algn="l" pos="3073320"/>
                <a:tab algn="l" pos="3530520"/>
                <a:tab algn="l" pos="3987720"/>
                <a:tab algn="l" pos="4444920"/>
                <a:tab algn="l" pos="4902120"/>
                <a:tab algn="l" pos="5359320"/>
                <a:tab algn="l" pos="5816520"/>
                <a:tab algn="l" pos="6273720"/>
                <a:tab algn="l" pos="6730920"/>
                <a:tab algn="l" pos="7188120"/>
                <a:tab algn="l" pos="7645320"/>
                <a:tab algn="l" pos="8102520"/>
                <a:tab algn="l" pos="8559720"/>
                <a:tab algn="l" pos="9016920"/>
                <a:tab algn="l" pos="9474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3520" y="281160"/>
            <a:ext cx="8569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6666ff"/>
                </a:solidFill>
                <a:latin typeface="Arial"/>
              </a:rPr>
              <a:t>Exemplo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35400" y="2133720"/>
            <a:ext cx="2249280" cy="253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ug</cp:lastModifiedBy>
  <cp:revision>0</cp:revision>
  <dc:subject/>
  <dc:title>UML to CCS   Patent Disclosures: CA820060057 &amp; CA820060103</dc:title>
</cp:coreProperties>
</file>